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835-A7F5-45F2-A785-918DE00E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238-9C9B-40AE-BAEE-8EACB1FA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0A5-0D9D-417E-8DFD-83149EFE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CED-9085-4949-AAD4-59473320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3558D-742D-43A0-8E38-76B09DB2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28D94-DE86-49C9-BD2E-D661AF78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095CB-2000-4BBB-BFF2-334069CE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CF7BB-BBB4-484F-BDB6-54259331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F9085-5C81-4603-92F4-626BDD1B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EB247-792A-44DA-8A8C-6F3FF79B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E96DE-FC41-41A5-9C82-BD2F3A8F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E04-8295-4AAD-8FD3-16344644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7636C-B476-4943-90BE-3A1A6405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017DF-EEB9-4F03-A8DE-D9CF04A4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5EDF-52C2-48EA-B22B-54B4D73D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2650F-5509-42FB-A88E-605C1A50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73969-B75E-484A-B4EE-7C14292C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7566-DE0A-469C-865F-C63FE9A4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5F29-B0DF-4C56-868B-9CFFC2C2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E3CB-2E84-4A6D-B78C-0A07BFFD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C845-3542-4A9C-965A-BA43A339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366AF-1C43-44E2-9CE8-A0EF9D12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20A-55C4-44C9-B231-965CCF09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83C10-0AE7-42B7-B71B-07238138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7036-AC4F-41D6-88E4-D718FD7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DC9D-697A-415F-8461-8799352B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9DD2A-16AC-4CEF-BA08-87BD7B40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B660C-94D8-433A-B134-64B9A9D3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755E-960C-4172-8B45-5A641075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A874-B0D8-4503-921B-023381A3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E7B7BC-DE09-457F-8B6E-182BE3D0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CED90-831E-4E36-97C4-BCC20B8D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0C13D-7FA2-4DFC-B0DD-D2A4CA63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5D5-BF12-4930-B823-D552657F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B718B5-55FE-4C7D-9EF5-46698907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25F73-9D3A-4859-8E69-9E1BFA3E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FE2F4C-D6F6-49AD-A170-2A6DA237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3E916-36CD-4A14-9EA3-F671807B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874EB-F58A-45D4-B7D8-AEAD2470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1B384-33D0-488F-8401-E12930E9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B8EDE1-AE88-4CF7-9887-DCB5CFD6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38C525-6DC2-426D-9FA0-8F23D56F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18364-9125-4338-9A38-09BDBDD4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F23-D3C6-4C35-8E79-431BDDC3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FA0-A69E-406C-8526-918E674F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4DE-D1BF-436E-A685-C904D3F4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D0B-5270-4E1A-9EC0-A724986A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CEC-5C97-4714-A894-11175349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6FE4-5BB6-4830-BE03-DCF64988693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DB66-3654-4A06-98B8-2071FC04146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353A-4A0A-4EAF-9714-87174BC2F39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7F23-7650-4C06-9DFB-640E769EA1F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0" y="3700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Identify the methods Americans used to cope with the Depress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016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chnology that kept the American people not only informed, but also entertain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isten to baseball gam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Lou Gehrig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Joe DiMaggio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orse rac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abiscuit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Many “shows” started on the radio: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Little Orphan Anni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War of the World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http://www.reminisce.com/wp-content/uploads/2011/09/MitchellRadioStory.jpg"/>
          <p:cNvPicPr/>
          <p:nvPr/>
        </p:nvPicPr>
        <p:blipFill>
          <a:blip r:embed="rId2"/>
          <a:stretch/>
        </p:blipFill>
        <p:spPr>
          <a:xfrm>
            <a:off x="4267080" y="2209680"/>
            <a:ext cx="426744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dio shows that had a continuing stor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ppealed to the woman of the 1930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Green Horne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Lone Rang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https://ephemeralnewyork.files.wordpress.com/2010/04/dailynewsradioguide.jpg?w=450&amp;h=241"/>
          <p:cNvPicPr/>
          <p:nvPr/>
        </p:nvPicPr>
        <p:blipFill>
          <a:blip r:embed="rId2"/>
          <a:stretch/>
        </p:blipFill>
        <p:spPr>
          <a:xfrm>
            <a:off x="1676520" y="3352680"/>
            <a:ext cx="5994360" cy="321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Vintage Radio"/>
          <p:cNvPicPr/>
          <p:nvPr/>
        </p:nvPicPr>
        <p:blipFill>
          <a:blip r:embed="rId3"/>
          <a:stretch/>
        </p:blipFill>
        <p:spPr>
          <a:xfrm rot="856800">
            <a:off x="6073560" y="472680"/>
            <a:ext cx="2904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http://4.bp.blogspot.com/_AitGIGPUGkQ/TAfOhgIksWI/AAAAAAAAEPs/0BJrpid2sM0/s1600/swpost37a.jpg"/>
          <p:cNvPicPr/>
          <p:nvPr/>
        </p:nvPicPr>
        <p:blipFill>
          <a:blip r:embed="rId1"/>
          <a:stretch/>
        </p:blipFill>
        <p:spPr>
          <a:xfrm rot="1147200">
            <a:off x="7120080" y="153720"/>
            <a:ext cx="1885680" cy="2843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The Wizard of Oz (1939) Poster"/>
          <p:cNvPicPr/>
          <p:nvPr/>
        </p:nvPicPr>
        <p:blipFill>
          <a:blip r:embed="rId2"/>
          <a:stretch/>
        </p:blipFill>
        <p:spPr>
          <a:xfrm rot="20620800">
            <a:off x="316080" y="212400"/>
            <a:ext cx="1919160" cy="2841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GoneWithTheWind"/>
          <p:cNvPicPr/>
          <p:nvPr/>
        </p:nvPicPr>
        <p:blipFill>
          <a:blip r:embed="rId3"/>
          <a:stretch/>
        </p:blipFill>
        <p:spPr>
          <a:xfrm>
            <a:off x="228600" y="3836880"/>
            <a:ext cx="1924200" cy="2857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133360" y="1143000"/>
            <a:ext cx="56386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other way to escape your problem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Wizard of Oz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now White and the Seven Dwarf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Gone with the Wind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tors &amp; actresses became celebrities and household nam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hirley Templ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3 Stooges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Walt Disne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3" name="Title 1" descr=""/>
          <p:cNvPicPr/>
          <p:nvPr/>
        </p:nvPicPr>
        <p:blipFill>
          <a:blip r:embed="rId4"/>
          <a:stretch/>
        </p:blipFill>
        <p:spPr>
          <a:xfrm>
            <a:off x="2365200" y="-42840"/>
            <a:ext cx="370080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http://3.bp.blogspot.com/_FfVf0AjTN9M/SZOs_TiAmzI/AAAAAAAACq0/MkVXiMs5In4/s400/movietheater.jpg"/>
          <p:cNvPicPr/>
          <p:nvPr/>
        </p:nvPicPr>
        <p:blipFill>
          <a:blip r:embed="rId5"/>
          <a:stretch/>
        </p:blipFill>
        <p:spPr>
          <a:xfrm>
            <a:off x="5105520" y="3962520"/>
            <a:ext cx="3905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-76320" y="914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lped to relax people from their financial troub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rother, Can You Spare Me A Dime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We’re in the Money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6" name="Title 1" descr=""/>
          <p:cNvPicPr/>
          <p:nvPr/>
        </p:nvPicPr>
        <p:blipFill>
          <a:blip r:embed="rId1"/>
          <a:stretch/>
        </p:blipFill>
        <p:spPr>
          <a:xfrm>
            <a:off x="457200" y="-3049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Brother, Can You Spare a Dime? Sheet Music Preview Page 1"/>
          <p:cNvPicPr/>
          <p:nvPr/>
        </p:nvPicPr>
        <p:blipFill>
          <a:blip r:embed="rId2"/>
          <a:stretch/>
        </p:blipFill>
        <p:spPr>
          <a:xfrm rot="20687400">
            <a:off x="455400" y="2452320"/>
            <a:ext cx="3001680" cy="424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http://www.hamienet.com/Were-in-the-Money-sheet-music-page_6627-4-1.png"/>
          <p:cNvPicPr/>
          <p:nvPr/>
        </p:nvPicPr>
        <p:blipFill>
          <a:blip r:embed="rId3"/>
          <a:stretch/>
        </p:blipFill>
        <p:spPr>
          <a:xfrm rot="457800">
            <a:off x="5409720" y="1612440"/>
            <a:ext cx="36576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Stock Photo #1895-14275, A family playing a game of Monopoly, c 1930."/>
          <p:cNvPicPr/>
          <p:nvPr/>
        </p:nvPicPr>
        <p:blipFill>
          <a:blip r:embed="rId1"/>
          <a:stretch/>
        </p:blipFill>
        <p:spPr>
          <a:xfrm>
            <a:off x="3430440" y="3276720"/>
            <a:ext cx="4951440" cy="3367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nopo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crabb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Vintage 1930's Monopoly Game Pieces"/>
          <p:cNvPicPr/>
          <p:nvPr/>
        </p:nvPicPr>
        <p:blipFill>
          <a:blip r:embed="rId3"/>
          <a:stretch/>
        </p:blipFill>
        <p:spPr>
          <a:xfrm rot="20485200">
            <a:off x="280800" y="3252960"/>
            <a:ext cx="3176280" cy="2766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http://www.9label.com/images/site/288.jpg"/>
          <p:cNvPicPr/>
          <p:nvPr/>
        </p:nvPicPr>
        <p:blipFill>
          <a:blip r:embed="rId4"/>
          <a:stretch/>
        </p:blipFill>
        <p:spPr>
          <a:xfrm rot="955200">
            <a:off x="5767560" y="421920"/>
            <a:ext cx="3097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The Grapes of Wrath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John Steinbeck – told about the Dust Bow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ater turned into a movie </a:t>
            </a:r>
            <a:r>
              <a:rPr b="0" lang="en-US" sz="2400" spc="-1" strike="noStrike">
                <a:solidFill>
                  <a:srgbClr val="fefac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JohnSteinbeck TheGrapesOfWrath.jpg"/>
          <p:cNvPicPr/>
          <p:nvPr/>
        </p:nvPicPr>
        <p:blipFill>
          <a:blip r:embed="rId2"/>
          <a:stretch/>
        </p:blipFill>
        <p:spPr>
          <a:xfrm>
            <a:off x="5791320" y="2209680"/>
            <a:ext cx="2743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28600" y="304920"/>
            <a:ext cx="51055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onder Brea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ostess Twinkie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ott’s Apple Sau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nicker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eech-Nut Baby Food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isquick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rito Corn Chip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ootsie Pop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kippy Peanut Butte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ampbell’s Chicken Noodle Soup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oyal Crown Col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eal Lemon Lemon Jui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Kix Cerea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agu Spaghetti Sau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ay’s Potato Chip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Kraft Macaroni and Chees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estle Tollhouse Chocolate Chip Cookie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5" descr="birds eye ritz snickers nescafe kraft mac and cheese twinkies"/>
          <p:cNvPicPr/>
          <p:nvPr/>
        </p:nvPicPr>
        <p:blipFill>
          <a:blip r:embed="rId1"/>
          <a:stretch/>
        </p:blipFill>
        <p:spPr>
          <a:xfrm>
            <a:off x="3987720" y="763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9:25:08Z</dcterms:created>
  <dc:creator>LATHOMPS</dc:creator>
  <dc:description/>
  <dc:language>en-US</dc:language>
  <cp:lastModifiedBy>Vickie J. Dean</cp:lastModifiedBy>
  <dcterms:modified xsi:type="dcterms:W3CDTF">2018-03-21T18:19:03Z</dcterms:modified>
  <cp:revision>11</cp:revision>
  <dc:subject/>
  <dc:title>Great Depression in America</dc:title>
</cp:coreProperties>
</file>